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FE0A-B8DE-4CAD-8DDA-499E0A84F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F815-0C68-4882-90E5-063A0F5AF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3F0C-988A-4ADB-A068-D5CBEA499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3FCF-02B4-4C29-A591-C563DE043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4CC7-D3D3-4059-A9CF-B2B04EDD5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7124-4BE8-46C8-A543-9173D79F9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6875-1471-4C3D-A8B7-033219557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DA21-7E47-4E1B-804B-95AD87D30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F208-7A08-45D0-A698-FD5DA60BE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7565-34E0-4AC2-BD9B-102430124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A82A-048E-474F-9783-C0DA3574F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9347-A952-4D08-83D2-085B2B08C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99D47-AC8C-4972-A3E7-2A1E78EBFD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int Like an Impressioni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04920" y="1471680"/>
            <a:ext cx="3143160" cy="22334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5791320" y="1981080"/>
            <a:ext cx="2508120" cy="29718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2743200" y="4378320"/>
            <a:ext cx="2743200" cy="20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541440"/>
            <a:ext cx="9144000" cy="57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541440"/>
            <a:ext cx="9144000" cy="57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542880"/>
            <a:ext cx="9144000" cy="57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542880"/>
            <a:ext cx="9144000" cy="57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2T18:30:29Z</dcterms:created>
  <dc:creator>Patrick J. Mooney</dc:creator>
  <dc:description/>
  <dc:language>en-US</dc:language>
  <cp:lastModifiedBy>Patrick J. Mooney</cp:lastModifiedBy>
  <dcterms:modified xsi:type="dcterms:W3CDTF">2011-02-12T20:01:00Z</dcterms:modified>
  <cp:revision>2</cp:revision>
  <dc:subject/>
  <dc:title>Slide 1</dc:title>
</cp:coreProperties>
</file>